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F4-5B5D-47C6-9D51-0B85A189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F67-DBAD-4C5D-9657-DBCB37AC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ECC-EAA5-4275-8C11-07670F0E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09D-371E-4D55-A685-B79C9F33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BE0-D7E4-4939-9AD4-A4C19E6C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45E-7D3B-44B6-857B-6D86385B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214-D1F3-4E11-AD1C-00879F0F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E47-A7C0-4FE4-99C6-893F0B4D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BC3-C913-4484-B11A-25586250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5CB-CD7F-435F-A2EE-0B962B50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8C0-5A33-4D25-BFD5-C036E9C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8D9-FE19-4447-A338-F74CAFE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BAA-10B9-418E-9AE1-74772A956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84240"/>
            <a:ext cx="8610480" cy="659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769608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ell Structur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&amp; Fun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rrounding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19720" y="1752120"/>
            <a:ext cx="4419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membrane of cell that controls movement in and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la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62485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found in plant cells 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&amp; protects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520" y="6172200"/>
            <a:ext cx="6248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ide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s cel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d from cytoplasm by nuclear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genetic material -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ounds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two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s allow material to enter and leave nucl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60786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instructions for traits &amp;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954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6248520"/>
            <a:ext cx="7086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RNA to build prote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6905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60958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24852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-like 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ed by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hereditary mater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92096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760" y="1218960"/>
            <a:ext cx="464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materials around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type: lacks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type (pictured): ribosomes embedded in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609588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contains thous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endoplasmic reticulum &amp; floating throughout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8446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6172200"/>
            <a:ext cx="57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energy through chemical reactions – breaking down fats &amp;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level of water and other materials i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" y="6172200"/>
            <a:ext cx="6400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lgi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in 'packaging plant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within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materials out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1387440"/>
            <a:ext cx="41907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6078600"/>
            <a:ext cx="7315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'plant' for proteins, fats, and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undigested material to cell membrane for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breaks down if lysosome expl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6467400"/>
            <a:ext cx="7391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-bound sacs for storage, digestion, and waste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wat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plants maintain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" y="6248520"/>
            <a:ext cx="617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und in pl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green chlorophy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photosynthesis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76832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617220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12413/structur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of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436760" cy="22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19520" cy="1893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1905120" cy="177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1676520"/>
            <a:ext cx="2819520" cy="533160"/>
          </a:xfrm>
          <a:prstGeom prst="wedgeRoundRectCallout">
            <a:avLst>
              <a:gd name="adj1" fmla="val -78435"/>
              <a:gd name="adj2" fmla="val 3541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438280"/>
            <a:ext cx="1981440" cy="381240"/>
          </a:xfrm>
          <a:prstGeom prst="wedgeRoundRectCallout">
            <a:avLst>
              <a:gd name="adj1" fmla="val 97115"/>
              <a:gd name="adj2" fmla="val -51249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114800"/>
            <a:ext cx="2362320" cy="457200"/>
          </a:xfrm>
          <a:prstGeom prst="wedgeRoundRectCallout">
            <a:avLst>
              <a:gd name="adj1" fmla="val -34208"/>
              <a:gd name="adj2" fmla="val 209375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1596960" cy="218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5029200"/>
            <a:ext cx="1981080" cy="457200"/>
          </a:xfrm>
          <a:prstGeom prst="wedgeRoundRectCallout">
            <a:avLst>
              <a:gd name="adj1" fmla="val -107291"/>
              <a:gd name="adj2" fmla="val 77777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657600" y="3048120"/>
            <a:ext cx="2019240" cy="165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3276720"/>
            <a:ext cx="2057400" cy="533160"/>
          </a:xfrm>
          <a:prstGeom prst="wedgeRoundRectCallout">
            <a:avLst>
              <a:gd name="adj1" fmla="val 114736"/>
              <a:gd name="adj2" fmla="val 4196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895120" y="2437920"/>
            <a:ext cx="3505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have structures surrounded by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inter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celled organisms,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648320" cy="402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64008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pro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ounded by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75080" cy="364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419112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438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1722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3244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library.thinkquest.org/C004535/eukaryotic_cell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Anima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995400"/>
            <a:ext cx="8077320" cy="5862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61722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eb.jjay.cuny.edu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~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carpi/NSC/images/cel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6324480"/>
            <a:ext cx="83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waynesword.palomar.edu/images/plant3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” Plan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2:38:52Z</dcterms:created>
  <dc:creator>Mary Poarch</dc:creator>
  <dc:description/>
  <dc:language>en-US</dc:language>
  <cp:lastModifiedBy>St. Aloysius</cp:lastModifiedBy>
  <dcterms:modified xsi:type="dcterms:W3CDTF">2012-02-09T13:50:57Z</dcterms:modified>
  <cp:revision>98</cp:revision>
  <dc:subject/>
  <dc:title>Cell Structure &amp; Function</dc:title>
</cp:coreProperties>
</file>